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F07E9-7853-438C-B1F1-096618FBE5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55723-BF37-481E-9FAF-1A4E32A8652C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B129-FACC-4C6A-B4F9-F89517A97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C909-3749-4D75-84B3-E6DDA46F3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394E-6851-4DB7-AFD1-4B2108CDC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FF93-F4F3-429F-BF67-1D5498761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92165-F660-49D5-96E7-D517CB3B4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734F4-DE06-4351-BE30-F54D61EA8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42ABA-A113-4BEB-A050-A76A34031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B198F-2288-4C13-A46A-A67999E61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0F4F8-6010-4CED-9E8A-C61108CAA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53D90-1899-4FBB-A67E-7F24FCCAA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BA6AF-58DA-4CF5-AED7-CA4D73BC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C184-16F7-4375-AB3E-77103B08C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40A93-9BD7-4FBF-BAE0-EBB44A26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E1868-09C4-40B1-BE70-79C264E2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96E91-8581-4DC2-A9AB-CF4F89268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907B4-528A-477A-AF42-86B8D43B3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24035-E3B0-493A-B0D7-EBD83EA41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7DDF6-E5EA-4CAD-A1BF-D0DBE6569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7064F-3512-4888-A6C8-3CF4F88D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39497-EAED-4B5D-97C6-329F77896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D0D2F-520C-4111-B7FE-F1DC10A7B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9CFF7-8CD3-40C3-B1B0-C0C97F2FB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8466-09E9-4563-8475-8DF1E242D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AA8A1-D4D5-4A16-AFA9-AFCC04380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10442-53B6-485F-8F69-9D206E5A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E4C62-63BA-4132-801C-8AB0B546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EEEBC-8253-49D9-919D-B9D2FCA1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3A283-C124-4555-8B46-4275CA21F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784A6-D927-4C1C-8510-24C572480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2BD48-B7E0-4E34-BF54-C5F4EF680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32C94-DE06-41CD-9D7E-C13BA235F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14098-AF1A-4343-A618-97167B9C3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E4131-FED7-41A7-8921-342E5A959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8C59-6AAB-468D-9163-5CEE82332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29513-C663-4EE5-8683-A069683FF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2B39A-D4A9-4332-B603-305B8F5E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20D25-9C6A-4043-A14D-740DCEB99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909DB-8FD1-45F6-AC4E-2311326F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16D33-77A3-44A0-A1E2-FD7B3C9A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E030E-03C7-4A13-9603-20BE92D4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FD7DC-661D-449A-88D6-185EAF694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6CCB6-3FEC-444A-8292-A28E427E1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D93EE-741D-4EFC-AB7A-F32378DDB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7C5FC-EC51-4BFB-9F01-F17B02326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8D28-D27C-4402-9874-10075D7BE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6F2AA-21A8-414A-AE8E-B3B4C4007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2D88D-199A-4AD2-BFCC-A513285F1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31F37-3296-4E99-812D-5B5F6B39A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15B2B-F18D-412A-88C1-D8EBE05DD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08C41-A3BC-42FC-B9FC-D4BBB0B5F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81E45-3EC6-4FAC-BE6D-418B3BD7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D795E-2311-464D-8D0E-32300BF6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F284A-B11D-4BDC-BB40-B7C71AF2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A18C2-8012-479B-9D27-A6497CEA9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ACD14-E6F4-4A19-8F66-53AE5B042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9EFE-DC5B-4486-84AD-0CD02807C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D3B78-698C-4C15-A7F3-50375F270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E7022-02BE-4138-BF50-C113E31DB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F9D07-BB45-443C-9D24-D9FAA4F5F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09A9B-7A98-419E-B372-A54A034B4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8587F-4572-48CA-981C-99DF6B4A8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F216A-0583-4428-9B1D-6EE156E5A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D8ADE-A85F-46A6-9813-F4345EEE5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1AB1A-045F-4E47-860B-A8D30B6A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91497-F504-4409-985C-11FB40B4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B095C-D0AF-441C-8D9C-0209ED19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DCA1-C198-478A-BD83-048A0D5C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A0549-7433-49CA-81AF-9D8DCE307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26A67-F456-40FE-B2AA-5FFC6115B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BFED0-3C6B-4668-9767-55EE01A3C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2720-5D09-441D-B197-52B35198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BB6D-2A41-4854-838A-15E4D63D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39308-512D-4FEF-8DED-D55ED7C0A1EF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754F2-4BA0-45A3-A321-701F9EC52C5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EFA51-483C-4DB4-9D83-F8C38ACB02C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D266F-896B-409C-B859-91033376D512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CC733-239E-4E7C-AC43-B9F474C134C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303480"/>
              <a:chOff x="637560" y="534600"/>
              <a:chExt cx="8109000" cy="30348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303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26874-C5D8-4803-8220-BF3B0ABD5A4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0-2021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7777080" cy="533376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5025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1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7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17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7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96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9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8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2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5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9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0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778320" y="562320"/>
            <a:ext cx="7866720" cy="105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9 ГОД 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757,69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5" name="Object 4"/>
          <p:cNvGraphicFramePr/>
          <p:nvPr/>
        </p:nvGraphicFramePr>
        <p:xfrm>
          <a:off x="1130400" y="2133720"/>
          <a:ext cx="7086600" cy="45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2133720"/>
                    <a:ext cx="7086600" cy="45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45640" y="487080"/>
            <a:ext cx="781092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19 год – 465,39 млн.руб. (местный бюджет – 153,62 млн.руб.,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311,77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8" name="Object 4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67,6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1" name="Object 4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 на 2019 год - 8,23 млн.руб.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на 2019 год – 3,3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4" name="Object 3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22,57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7" name="Object 3" descr=""/>
          <p:cNvPicPr/>
          <p:nvPr/>
        </p:nvPicPr>
        <p:blipFill>
          <a:blip r:embed="rId1"/>
          <a:stretch/>
        </p:blipFill>
        <p:spPr>
          <a:xfrm>
            <a:off x="1068480" y="2209680"/>
            <a:ext cx="7284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- 1,91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9" name="Object 3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1,99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32" name="Object 3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41,6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35" name="Object 3" descr=""/>
          <p:cNvPicPr/>
          <p:nvPr/>
        </p:nvPicPr>
        <p:blipFill>
          <a:blip r:embed="rId1"/>
          <a:stretch/>
        </p:blipFill>
        <p:spPr>
          <a:xfrm>
            <a:off x="1284120" y="1981080"/>
            <a:ext cx="713268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ОТДЕЛЬНЫЕ НЕПРОГРАММНЫЕ НАПРАВЛЕНИЯ ДЕЯТЕЛЬНОСТИ ИЗ МЕСТНОГО БЮДЖЕТ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7" name="Object 4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9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5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2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2,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6,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69412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6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1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85640" y="1494000"/>
          <a:ext cx="8568000" cy="4956120"/>
        </p:xfrm>
        <a:graphic>
          <a:graphicData uri="http://schemas.openxmlformats.org/drawingml/2006/table">
            <a:tbl>
              <a:tblPr/>
              <a:tblGrid>
                <a:gridCol w="4027680"/>
                <a:gridCol w="1244520"/>
                <a:gridCol w="950760"/>
                <a:gridCol w="806760"/>
                <a:gridCol w="804600"/>
                <a:gridCol w="73368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строительство, реконструкцию зданий (в том числе проектно-изыскательские работы) детских сад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развитие муниципальной спортивной инфраструктур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текущий, капитальный ремонт муниципальных гидротехнических сооружен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капитальный ремонт и ремонт автомобильных дорог общего пользования населенных пунк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молодым семьям для приобретения (строительства) жилья экономкласс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формирование современной городской сред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бюджету Дальнереченского городского округ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2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0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9 ГОД (741,36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7" name="Object 4"/>
          <p:cNvGraphicFramePr/>
          <p:nvPr/>
        </p:nvGraphicFramePr>
        <p:xfrm>
          <a:off x="1130400" y="1231920"/>
          <a:ext cx="7022880" cy="50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1231920"/>
                    <a:ext cx="7022880" cy="50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9 ГОДУ (351,14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0" name="Object 4"/>
          <p:cNvGraphicFramePr/>
          <p:nvPr/>
        </p:nvGraphicFramePr>
        <p:xfrm>
          <a:off x="485640" y="156672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640" y="156672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8 И 2019-2021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3" name="Object 4"/>
          <p:cNvGraphicFramePr/>
          <p:nvPr/>
        </p:nvGraphicFramePr>
        <p:xfrm>
          <a:off x="325440" y="1287360"/>
          <a:ext cx="4686120" cy="543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287360"/>
                    <a:ext cx="4686120" cy="54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9ГОДУ (292,7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7" name="Object 6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598320" y="310680"/>
            <a:ext cx="8109360" cy="567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265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6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2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3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85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6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5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632720" cy="10000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9 ГОД (757,69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12" name="Object 4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07-30T01:06:59Z</dcterms:modified>
  <cp:revision>177</cp:revision>
  <dc:subject/>
  <dc:title>Структура собственных доходов на 2016 год бюджета Дальнереченского городского округа</dc:title>
</cp:coreProperties>
</file>